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52360"/>
            <a:ext cx="8534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252360"/>
            <a:ext cx="8534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logo_small"/>
          <p:cNvPicPr/>
          <p:nvPr/>
        </p:nvPicPr>
        <p:blipFill>
          <a:blip r:embed="rId2"/>
          <a:stretch/>
        </p:blipFill>
        <p:spPr>
          <a:xfrm>
            <a:off x="8620200" y="6553080"/>
            <a:ext cx="218880" cy="219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header gradient bar"/>
          <p:cNvPicPr/>
          <p:nvPr/>
        </p:nvPicPr>
        <p:blipFill>
          <a:blip r:embed="rId3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227160" indent="-2271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31800" indent="-29052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20880" indent="-174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58920" indent="-22392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44760" indent="-171720">
              <a:spcBef>
                <a:spcPts val="451"/>
              </a:spcBef>
              <a:buClr>
                <a:srgbClr val="4d4d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44760" indent="-1717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44760" indent="-1717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 flipH="1">
            <a:off x="0" y="646128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 flipV="1">
            <a:off x="1065240" y="6468840"/>
            <a:ext cx="1440" cy="38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 flipV="1">
            <a:off x="8348760" y="6467400"/>
            <a:ext cx="1440" cy="387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1371600" y="6559560"/>
            <a:ext cx="25909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Arial"/>
              </a:rPr>
              <a:t>TITLE  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5448240" y="6553080"/>
            <a:ext cx="25909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© 2010 Confidential and Propri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5"/>
          <p:cNvSpPr/>
          <p:nvPr/>
        </p:nvSpPr>
        <p:spPr>
          <a:xfrm>
            <a:off x="0" y="6602400"/>
            <a:ext cx="1066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Arial"/>
              </a:rPr>
              <a:t>PAGE </a:t>
            </a:r>
            <a:fld id="{77D571FA-2B45-427C-A6D5-1594F3FA231E}" type="slidenum">
              <a:rPr b="1" lang="en-US" sz="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9" descr="cover"/>
          <p:cNvPicPr/>
          <p:nvPr/>
        </p:nvPicPr>
        <p:blipFill>
          <a:blip r:embed="rId2"/>
          <a:stretch/>
        </p:blipFill>
        <p:spPr>
          <a:xfrm>
            <a:off x="0" y="0"/>
            <a:ext cx="9145440" cy="4459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6248520" y="6553080"/>
            <a:ext cx="25905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© 2010 Confidential and Propri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logo big"/>
          <p:cNvPicPr/>
          <p:nvPr/>
        </p:nvPicPr>
        <p:blipFill>
          <a:blip r:embed="rId3"/>
          <a:stretch/>
        </p:blipFill>
        <p:spPr>
          <a:xfrm>
            <a:off x="304920" y="4782960"/>
            <a:ext cx="3047760" cy="855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227160" indent="-2271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31800" indent="-29052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20880" indent="-17460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58920" indent="-223920"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44760" indent="-171720">
              <a:spcBef>
                <a:spcPts val="451"/>
              </a:spcBef>
              <a:buClr>
                <a:srgbClr val="4d4d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44760" indent="-1717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44760" indent="-17172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93396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CC70-B472-49B0-85C5-99EAC3D2A12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3F11-3492-4F39-A6FB-27084BE06A93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927160"/>
            <a:ext cx="777240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3429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5236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171360" indent="-1713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&gt; 1/3 of World Energy Consumption Used for Bldg Opera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31800" indent="-29052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eating (Hot Water, Process Steam, Space Heating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31800" indent="-29052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Cooling (Air Conditioning, Cold Storag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31800" indent="-29052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Electric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31800" indent="-290520">
              <a:spcBef>
                <a:spcPts val="4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Lighting (Artificial, Ambien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V Integrators Looking to Horizontally Expan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VAC Equipment Manufacturers Looking for Renewable Sol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4920" y="1371600"/>
            <a:ext cx="8534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f4375"/>
                </a:solidFill>
                <a:latin typeface="Arial"/>
              </a:rPr>
              <a:t>CHROMASUN PROVIDES PRODUCTS FOR </a:t>
            </a:r>
            <a:br>
              <a:rPr sz="2100"/>
            </a:br>
            <a:r>
              <a:rPr b="0" lang="en-US" sz="2100" spc="-1" strike="noStrike">
                <a:solidFill>
                  <a:srgbClr val="1f4375"/>
                </a:solidFill>
                <a:latin typeface="Arial"/>
              </a:rPr>
              <a:t>BUILDING ENERGY NE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A1A0-7643-4F93-A911-66A6DD7A77F9}" type="datetime">
              <a:rPr b="0" lang="en-US" sz="18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4920" y="2843280"/>
            <a:ext cx="678168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f4375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81560" y="53341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375"/>
                </a:solidFill>
                <a:latin typeface="Arial"/>
              </a:rPr>
              <a:t>PETER LE LIÈV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+1 650 521 687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PETER@CHROMASUN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21:44:27Z</dcterms:created>
  <dc:creator>Fez</dc:creator>
  <dc:description/>
  <dc:language>en-US</dc:language>
  <cp:lastModifiedBy>Scooter 2</cp:lastModifiedBy>
  <dcterms:modified xsi:type="dcterms:W3CDTF">2011-05-20T18:56:28Z</dcterms:modified>
  <cp:revision>4</cp:revision>
  <dc:subject/>
  <dc:title>PowerPoint Presentation</dc:title>
</cp:coreProperties>
</file>